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6858000" cy="9144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Img"/>
          </p:nvPr>
        </p:nvSpPr>
        <p:spPr>
          <a:xfrm>
            <a:off x="3609720" y="515520"/>
            <a:ext cx="1925640" cy="25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olysi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oxygen only determines the fate of the  by product (pyruvic ac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ebs Cycle: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 complete series of chemical reactions (catalyzed by enzymes)  that permits the comple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of acetyl Co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2ATP ar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Trasport Syst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Hydrogen combines with NAD and FAD which carries it to the electron transport ch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Hydrogen atoms split into protons and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ldImg"/>
          </p:nvPr>
        </p:nvSpPr>
        <p:spPr>
          <a:xfrm>
            <a:off x="3610080" y="515880"/>
            <a:ext cx="1925640" cy="2568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polysis: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hospholipids and cholesterol are fats but are not considered major energy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riglycerides are considered major energy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Oxid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energy is used to break down (catabolize) triglycerides within the mitochond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free fatty acids become 2-carbon units of ace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ebs Cy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H is generated and is transported to the electron transport ch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Transport Ch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 16 carbon fatty acid produces18 moles of acetic acid which produces 129 moles of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biproducts include H2O, and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combustion of fatty acids requires more oxygen because it contains considerably more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ldImg"/>
          </p:nvPr>
        </p:nvSpPr>
        <p:spPr>
          <a:xfrm>
            <a:off x="3610080" y="515880"/>
            <a:ext cx="1925640" cy="2568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 Activ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ncreased enzyme activity equals increased oxygen consum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endurance athletes muscles have 2 to 4 times the oxydative activity than untrained 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Fiber Typ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ore mitochondria and oxidative enzy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ed in color - high capillary d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low to re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ype 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produce some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pink in color - moderate capillary density (some aerobic capabilit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ype 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oduce great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ite in color - fatigue eas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ldImg"/>
          </p:nvPr>
        </p:nvSpPr>
        <p:spPr>
          <a:xfrm>
            <a:off x="3610080" y="515880"/>
            <a:ext cx="1925640" cy="2568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 Calorimet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n insulated airtight chamber is used to measur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body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rect Calorimet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alorie expenditure can be estimated by measuring your respiratory g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espiratory Exchange Ratio = CO2 /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ily Calorie Computations: performed in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Img"/>
          </p:nvPr>
        </p:nvSpPr>
        <p:spPr>
          <a:xfrm>
            <a:off x="3610080" y="515880"/>
            <a:ext cx="1925640" cy="2568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-Exercise Oxygen consump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Oxygen Deficit: the difference between the oxygen required for a given rate of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eh oxygen actually consu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teady State: is when the oxygen demand is equal to the oxygen consu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Excess Post-Exercise Oxygen Consumption: is the increased oxygen consump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ing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) required to rebuild ATP and P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) removal of lactate from the tissues  ---- [cool down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) replenish oxygen stores (hemoglog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) required to decrease CO2 levels in the tissues and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tate Threshold: the point at which blood lactate begins to accumulazte above resting levels dur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 of increasing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ought to reflect the interaction of the aerobic and anaerobic energy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 lactate threshold at 80% of VO2 max suggests a greater tolerance than at 60% VO2 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Img"/>
          </p:nvPr>
        </p:nvSpPr>
        <p:spPr>
          <a:xfrm>
            <a:off x="3610080" y="515880"/>
            <a:ext cx="1925640" cy="2568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al Metabolic Rate:  how is it affe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fat free mass, surface area, age, body temperature, stress, 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verage daily metabolic rate is 1,800 to 3,000 k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2 max: how is it affe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type of exercise per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body 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blood h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y of Effort:  this is the coaches j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ldImg"/>
          </p:nvPr>
        </p:nvSpPr>
        <p:spPr>
          <a:xfrm>
            <a:off x="3610080" y="515880"/>
            <a:ext cx="1925640" cy="2568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Law of Thermodynamics”: All forms of energy are interchangable, never lost or newly creat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imately becoming h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60%-70% of the total energy of the human body is degraded to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hydrates: are ultimately converted to gluc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s: the body stores much more fat (70,000 calories) than it does carbohyd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: gluconeogenesis is the conversion of protein or fat to gluc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3610080" y="515880"/>
            <a:ext cx="1925640" cy="2568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-PCr: is the simplest of the energy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reatine Kinase is a catalyst which facilitates the release of energy from P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t exhaustion both ATP and PCr levels are quite 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Your ATP and PCr stores can sustain your muscles energy for only 3-15 second sp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mole of PCr = 1mole of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olysi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glucose accounts for about 99% of all sugars i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glycogen is broken down to glucose-1-phosphate through glycogen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en it must be converted to  glucose-6-phosph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glycolytic enzymes ultimately produces pyruv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mole of glycogen = 3moles of ATP  1mole of glucose = 2moles of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ithout oxygen lactic acid is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ldImg"/>
          </p:nvPr>
        </p:nvSpPr>
        <p:spPr>
          <a:xfrm>
            <a:off x="3610080" y="515880"/>
            <a:ext cx="1925640" cy="2568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4440" y="33012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440" y="53042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33012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1360" y="243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4440" y="53042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1360" y="53042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4440" y="33012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85440" y="243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456080" y="24382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4440" y="53042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85440" y="53042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456080" y="53042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4440" y="33012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14440" y="24382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33012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33012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1360" y="24382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33012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14440" y="330120"/>
            <a:ext cx="58291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33012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1360" y="24382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14440" y="53042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4440" y="33012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1360" y="243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1360" y="53042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33012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1360" y="24382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440" y="53042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0" y="0"/>
            <a:ext cx="6675480" cy="8740800"/>
          </a:xfrm>
          <a:custGeom>
            <a:avLst/>
            <a:gdLst>
              <a:gd name="textAreaLeft" fmla="*/ 0 w 6675480"/>
              <a:gd name="textAreaRight" fmla="*/ 6675840 w 6675480"/>
              <a:gd name="textAreaTop" fmla="*/ 0 h 8740800"/>
              <a:gd name="textAreaBottom" fmla="*/ 8741160 h 8740800"/>
            </a:gdLst>
            <a:ahLst/>
            <a:rect l="textAreaLeft" t="textAreaTop" r="textAreaRight" b="textAreaBottom"/>
            <a:pathLst>
              <a:path w="4205" h="5506">
                <a:moveTo>
                  <a:pt x="4204" y="2849"/>
                </a:moveTo>
                <a:lnTo>
                  <a:pt x="2601" y="0"/>
                </a:lnTo>
                <a:lnTo>
                  <a:pt x="2312" y="0"/>
                </a:lnTo>
                <a:lnTo>
                  <a:pt x="4060" y="3105"/>
                </a:lnTo>
                <a:lnTo>
                  <a:pt x="4006" y="3202"/>
                </a:lnTo>
                <a:lnTo>
                  <a:pt x="2204" y="0"/>
                </a:lnTo>
                <a:lnTo>
                  <a:pt x="1628" y="0"/>
                </a:lnTo>
                <a:lnTo>
                  <a:pt x="3718" y="3714"/>
                </a:lnTo>
                <a:lnTo>
                  <a:pt x="3384" y="4306"/>
                </a:lnTo>
                <a:lnTo>
                  <a:pt x="963" y="0"/>
                </a:lnTo>
                <a:lnTo>
                  <a:pt x="638" y="0"/>
                </a:lnTo>
                <a:lnTo>
                  <a:pt x="3222" y="4593"/>
                </a:lnTo>
                <a:lnTo>
                  <a:pt x="3087" y="4834"/>
                </a:lnTo>
                <a:lnTo>
                  <a:pt x="368" y="0"/>
                </a:lnTo>
                <a:lnTo>
                  <a:pt x="0" y="0"/>
                </a:lnTo>
                <a:lnTo>
                  <a:pt x="0" y="688"/>
                </a:lnTo>
                <a:lnTo>
                  <a:pt x="2709" y="5505"/>
                </a:lnTo>
                <a:lnTo>
                  <a:pt x="4204" y="2849"/>
                </a:lnTo>
              </a:path>
            </a:pathLst>
          </a:custGeom>
          <a:gradFill rotWithShape="0">
            <a:gsLst>
              <a:gs pos="0">
                <a:srgbClr val="6786e1"/>
              </a:gs>
              <a:gs pos="100000">
                <a:srgbClr val="d1da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14440" y="33012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14440" y="24382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Energy For Movemen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66320" y="42667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etabolism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asic Energy System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4440" y="33012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P-PCr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440" y="1905120"/>
            <a:ext cx="5829120" cy="670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implest of the energy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ergy released by the break-down of Creatine Phosphate (PCr), facilitated by the enzyme creatine kinase (CK), rebuilds ATP from AD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rocess is rap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require oxygen (O2) and is therefore anaerob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only sustain maximum muscle work for 3-15 seco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33012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lycolytic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440" y="1676160"/>
            <a:ext cx="5829120" cy="662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lves the breakdown (lysis) of glucose via special glycolytic enzy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ucose accounts for about 99% of all sugars circulating in the bl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ucose comes from the digestion of carbohydrates and the breakdown of glycogen dur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lycogenoly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ycogen is synthesized from glucose dur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lycogeni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330120"/>
            <a:ext cx="5829120" cy="127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lycolytic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440" y="1752120"/>
            <a:ext cx="5829120" cy="678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ucose and glycogen needs to be converted to glucose-6-phosphate before it can be used for energy.  For glucose this process takes 1 AT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ycolysis ultimately produces pyruvic acid which is then converted to lactic acid in the absence of oxy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ycolysis requires 12 enzymatic reactions to form lactic acid which occur within the cells cytoplas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4440" y="330120"/>
            <a:ext cx="5829120" cy="127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lycolytic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4440" y="1752480"/>
            <a:ext cx="5829120" cy="685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glycogen = 3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glucose = 2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es lactic acid accumulation in the mus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acidification discourages glyco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ases the muscle fibers’ calcium binding capacity and therefore impedes muscle contr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33012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xidative System (Carbohydrat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6400800" cy="617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ycolysi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yruvic acid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xidiz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etyl coenzyme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or 3 ATP are for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rebs Cyc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etyl CoA = (2ATP + H + 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 accepted by NAD &amp; F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 Transport Chai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plitting of H electrons and protons provides energy to perform oxidative phosphory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DP+P=ATP) + H2O + CO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ycogen = 39 moles of AT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4440" y="33012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xidative System (Carbohydrat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ular Respiration: energy production in the presence of oxy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urs in the mitochondria adjacent to the myofibrils and within the sarcopla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energy yields (39 ATP) which are used during aerobic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4440" y="33012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xidative System (Fa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4080" y="2438280"/>
            <a:ext cx="5810040" cy="609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polysis: Triglycerides are broken down into glycerol and fatty acids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ip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a Oxidation: fatty acids are broken down into units of acetic acid and converted to acetyl- 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rebs Cyc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 Transport Chai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mole of palmitic acid = 129 moles of AT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14440" y="33012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tein Metabo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uconeogenesis: some amino acids can be converted into glucose, pyruvate acid, 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etyl 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P is spent in this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products include other amino acids 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trogen which is excreted in ur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ergy from protein metabolism is igno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14440" y="33012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xidative Capacity of Mus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4440" y="1752480"/>
            <a:ext cx="5829120" cy="701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zyme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cle Fiber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w twitch (type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er oxidative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 twitch A (type 2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 twitch B (type 2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urance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hances mitochondria den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hances enzymes for B ox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diovascular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rate/depth of respi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gas exchange &amp; H.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 VO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4440" y="33012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suring Energy Use During Exerc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14440" y="1905120"/>
            <a:ext cx="5829120" cy="723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Calori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s body heat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rect Calori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mou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O2 &amp; CO2 ex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iratory exchang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at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 food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topic Measu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topes are elements with an atypical atomic w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topes are traced to determine metabo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s CO2 produced which is converted to energy expe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ily Caloric Comp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highly estimated comp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440" y="33012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ergy is the capacity to perform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ergy can come from a number of different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omagne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4440" y="33012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es of Anaerobic Eff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440" y="1905120"/>
            <a:ext cx="5829120" cy="670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-Exercise O2 Consum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xygen defic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ady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P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ctate Thres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int at which the blood lactate appears to increase above resting lev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ear break point when the onset of blood lactate accumulates (OBL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pressed as a % of VO2 max is a good indication of tolerance (pac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330120"/>
            <a:ext cx="5829120" cy="127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ergy Expendi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5829480" cy="716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al Metabolic Rate: measured in O2 use per min. at 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it affec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t free 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 surface area = heat 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mone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2 Max (aerobic capac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it affec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gen consumption increases with increased intensity of exer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2 Max plate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erform at a higher % of VO2 Max reflects a higher lactate thres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330120"/>
            <a:ext cx="5829120" cy="11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ergy Expendi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14440" y="152388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y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s of Endurance Su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VO2 ma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lactate threshold or OB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economy of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percentage of ST mus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 of Total Daily Caloric Expenditure is Variable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dy 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4440" y="33012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Fatig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14440" y="1371600"/>
            <a:ext cx="6038640" cy="731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eased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P-P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sphocreatine de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m-up &amp; pacing decreases fati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tting the wall” =  no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yco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ycogen depletion in used mus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letion in certain muscle fiber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letion of blood gluc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x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ck of O2 increas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tic ac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carbonate &amp; cool dow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usitive factor of muscle str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Metabolic Bi-products (acidosi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5829120" cy="127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Fatig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4440" y="1295280"/>
            <a:ext cx="5829120" cy="784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moscular Fati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eased nerve 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leted acetyl Co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colemma membrane threshold might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d potassium needed for nerve transmission along the sarcole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ium rentention within the sarcoplasmic reticul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igue may be psychological and therefore terminate exercise before the muscles are physiologically exhau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bal encour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ht or flight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ived discomfort preceeds muscle physiological limi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ayed Onset Muscle Sor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440" y="33012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829120" cy="617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 of “Thermodynamics” states that all forms of energy are interchange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ergy is never lost or newly created but always chang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ergy originates from the sun as light energy and is conver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ltimately stored in 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hyd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33012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ergy for Cellular 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4440" y="205740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ergy sour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bohydrates - glucose = (C6H12O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s - fatty acids = (C16H18O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ins - amino acids + nitro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mount of energy released in a biological reaction is calculated from the amount of heat pro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Kilocalorie = the amount of heat energy needed to raise 1kg of water 1 degree Celci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33012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ergy 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24382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nergy in food molec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on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hemically released within our cells then stored in the form of ATP bo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rmation of ATP provides the cells with a high-energy compound for storing and conserving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4440" y="33012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hohyd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4440" y="1599840"/>
            <a:ext cx="5829120" cy="708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e in many kinds of fo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converted to glucose, a monosacharide (one-unit sugar) and transported by the blood to all body tiss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gram yields about 4 kc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stored as glycogen in your muscles (cytoplasm) and liver (up to 2,000 kc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adequate carbohydrate intake, the muscles and liver stores can be depleted very quick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4440" y="33012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4440" y="1600200"/>
            <a:ext cx="5829120" cy="632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es in many f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ken down into free fatty acids which can be used to form AT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ram of fat yields about 9 kc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 provides a sizable amount of energy (70,000 kcal) during prolonged, less intense exerci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 is stored intramuscularly or subcutane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 is more difficult to break down and therefore it is less accessible for cellular metabol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33012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582948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only supply up to 5% to 10% of the energy needed to sustain prolonged exer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ino acids are broken down into glucose (gluconeogenesi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ram of protein yields about  4 kc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33012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energetics: ATP 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4440" y="1981080"/>
            <a:ext cx="5829120" cy="655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the ATP-PCr system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erobic (fig. 5.3, 5.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st energy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mole PCr = 1 mole of A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ATP = 7.6 k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the glycolytic system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erobic (fig. 5.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mole glycogen = 3moles of A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the oxidative syst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erobic (fig. 5.7, 5.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y yield = 39 moles of A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6T10:46:26Z</dcterms:created>
  <dc:creator>William A. Kauth</dc:creator>
  <dc:description/>
  <cp:keywords/>
  <dc:language>en-US</dc:language>
  <cp:lastModifiedBy>Lyn Clarkson</cp:lastModifiedBy>
  <cp:lastPrinted>1996-09-09T11:13:42Z</cp:lastPrinted>
  <dcterms:modified xsi:type="dcterms:W3CDTF">2009-09-03T01:19:13Z</dcterms:modified>
  <cp:revision>8</cp:revision>
  <dc:subject>Basic Energy Systems</dc:subject>
  <dc:title>Energy For Movement</dc:title>
</cp:coreProperties>
</file>